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0EC-5316-42BE-949B-CE5B8DCC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D5B-8738-4D4B-A341-E5ABAD55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201-BA42-42CB-A2EF-8C59898D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29F-FA93-410B-8EAC-674646A7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B94-798E-4A97-BA84-54EC6B65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F69-68C9-42B2-AB71-080FE152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E62-795E-42DD-AC70-CB5E12A9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C4C-E96E-4E15-9CF3-F01A9F91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115-E428-41AF-8160-D63E11EA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370-59BD-4163-96E8-1AFD625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4CD-706A-4F23-8067-9B18025E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769-9A33-4465-BFC1-DB26D070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236C-AE8F-4FE1-A411-A8F06ACCCA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-237960" y="-225360"/>
            <a:ext cx="9388440" cy="3614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04920" y="403704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come up to the front and get a fact sheet, worskheets, and the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lease find your seat (name on sticky note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8" descr=""/>
          <p:cNvPicPr/>
          <p:nvPr/>
        </p:nvPicPr>
        <p:blipFill>
          <a:blip r:embed="rId1"/>
          <a:stretch/>
        </p:blipFill>
        <p:spPr>
          <a:xfrm>
            <a:off x="2041560" y="1450800"/>
            <a:ext cx="4932360" cy="1341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304920" y="2849400"/>
            <a:ext cx="86104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* Please write this dow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enske.wikispaces.com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304920" y="411120"/>
            <a:ext cx="876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lease take a textbook  from the counter at the back of the ro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04920" y="246204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lease look over the book for any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cord your name and book number and any problems on the sheet being passed aroun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907920" y="-60480"/>
            <a:ext cx="7328160" cy="114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, Winter Track, Spring 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09480" y="529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 AP Stat, Stat &amp; Data Analysis, and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530280" y="-208080"/>
            <a:ext cx="7991280" cy="1324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09480" y="914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evel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1905120" y="152244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ork load (HW, reading boo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evel of mater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09480" y="3240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repare for future math c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09480" y="38498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Show real world applications of cont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09480" y="4459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o HW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 prepa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ad book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ttend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sk questions/ get extra help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1447920" y="838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3 ring bi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447920" y="1523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Rectangle 6" descr=""/>
          <p:cNvPicPr/>
          <p:nvPr/>
        </p:nvPicPr>
        <p:blipFill>
          <a:blip r:embed="rId1"/>
          <a:stretch/>
        </p:blipFill>
        <p:spPr>
          <a:xfrm>
            <a:off x="2541600" y="-189000"/>
            <a:ext cx="3578040" cy="1116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1447920" y="2209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: 83+, 84, or 84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Rectangle 8" descr=""/>
          <p:cNvPicPr/>
          <p:nvPr/>
        </p:nvPicPr>
        <p:blipFill>
          <a:blip r:embed="rId2"/>
          <a:stretch/>
        </p:blipFill>
        <p:spPr>
          <a:xfrm>
            <a:off x="2554200" y="2786040"/>
            <a:ext cx="3005280" cy="1116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1447920" y="3809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xpectations we’ve talked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1447920" y="4495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447920" y="5181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ell ph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1447920" y="5830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ress c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27432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bs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743200" y="1600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Rectangle 6" descr=""/>
          <p:cNvPicPr/>
          <p:nvPr/>
        </p:nvPicPr>
        <p:blipFill>
          <a:blip r:embed="rId1"/>
          <a:stretch/>
        </p:blipFill>
        <p:spPr>
          <a:xfrm>
            <a:off x="2548080" y="-189000"/>
            <a:ext cx="4151160" cy="1116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2743200" y="2286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u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Rectangle 8" descr=""/>
          <p:cNvPicPr/>
          <p:nvPr/>
        </p:nvPicPr>
        <p:blipFill>
          <a:blip r:embed="rId2"/>
          <a:stretch/>
        </p:blipFill>
        <p:spPr>
          <a:xfrm>
            <a:off x="2560680" y="2786040"/>
            <a:ext cx="4016160" cy="1116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2743200" y="3886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2743200" y="4572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2743200" y="5181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Receiving cre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2743200" y="5830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 assign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190512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905120" y="1523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alcu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Rectangle 6" descr=""/>
          <p:cNvPicPr/>
          <p:nvPr/>
        </p:nvPicPr>
        <p:blipFill>
          <a:blip r:embed="rId1"/>
          <a:stretch/>
        </p:blipFill>
        <p:spPr>
          <a:xfrm>
            <a:off x="1768320" y="-189000"/>
            <a:ext cx="5712120" cy="1116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1905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ats/sung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Rectangle 8" descr=""/>
          <p:cNvPicPr/>
          <p:nvPr/>
        </p:nvPicPr>
        <p:blipFill>
          <a:blip r:embed="rId2"/>
          <a:stretch/>
        </p:blipFill>
        <p:spPr>
          <a:xfrm>
            <a:off x="2560680" y="2786040"/>
            <a:ext cx="3157560" cy="1116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1905120" y="3809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mount/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1905120" y="4495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905120" y="5181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La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= 3 pa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838080" y="1523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C exam, PA1, PA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Rectangle 6" descr=""/>
          <p:cNvPicPr/>
          <p:nvPr/>
        </p:nvPicPr>
        <p:blipFill>
          <a:blip r:embed="rId1"/>
          <a:stretch/>
        </p:blipFill>
        <p:spPr>
          <a:xfrm>
            <a:off x="-133200" y="6480"/>
            <a:ext cx="949644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838080" y="22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in class, MC on Exam days (late Jan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Rectangle 8" descr=""/>
          <p:cNvPicPr/>
          <p:nvPr/>
        </p:nvPicPr>
        <p:blipFill>
          <a:blip r:embed="rId2"/>
          <a:stretch/>
        </p:blipFill>
        <p:spPr>
          <a:xfrm>
            <a:off x="2494080" y="3468600"/>
            <a:ext cx="3784320" cy="1116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838080" y="2859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As = 15%, MC = 70% of Final Exam gr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514600" y="4495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2514600" y="5181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pract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514600" y="5830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914400" y="838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# pts. Earned / # pts. possi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914400" y="1523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HW, quizzes, tests, projects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Rectangle 6" descr=""/>
          <p:cNvPicPr/>
          <p:nvPr/>
        </p:nvPicPr>
        <p:blipFill>
          <a:blip r:embed="rId1"/>
          <a:stretch/>
        </p:blipFill>
        <p:spPr>
          <a:xfrm>
            <a:off x="2968560" y="-109440"/>
            <a:ext cx="311472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914400" y="220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orderline grades (79.48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Rectangle 8" descr=""/>
          <p:cNvPicPr/>
          <p:nvPr/>
        </p:nvPicPr>
        <p:blipFill>
          <a:blip r:embed="rId2"/>
          <a:stretch/>
        </p:blipFill>
        <p:spPr>
          <a:xfrm>
            <a:off x="1359000" y="3468600"/>
            <a:ext cx="6205320" cy="1116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914400" y="2859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ormal grading scal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93% = A, 90% = A-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1828800" y="4495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1828800" y="5181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1828800" y="5830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Final Exam (MC &amp; PA) = 2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Senske</cp:lastModifiedBy>
  <dcterms:modified xsi:type="dcterms:W3CDTF">2009-08-31T17:45:26Z</dcterms:modified>
  <cp:revision>25</cp:revision>
  <dc:subject/>
  <dc:title>Slide 1</dc:title>
</cp:coreProperties>
</file>